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1AE-FB26-4C26-9DB6-CAED3A08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58D-22E2-4C82-9831-2490DC91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708-AA81-40B7-8068-7CCD6F82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FFC-37FA-4917-B2C5-6F8176F3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1AD-F7F1-4E20-A39F-ECBF9456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AE6-E53A-44E1-B0F1-A56EA78E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E7B-F639-4B70-BA58-7EC1B78A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AD6-7557-44DD-BF45-E5B2DF7D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F8C-F9EA-4E10-86B8-16449278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C4A-4610-4729-895A-67A33E90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831-6C68-4E7D-9416-2F080DB7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D6B-2FE8-4773-BC10-F53A8857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F9D2-4196-4913-A42F-B1D692C7D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33720" y="1047600"/>
            <a:ext cx="30765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0" y="260280"/>
            <a:ext cx="4572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24200" y="1238400"/>
            <a:ext cx="34956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525600"/>
            <a:ext cx="4572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48000" y="1523880"/>
            <a:ext cx="2448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7:10:01Z</dcterms:created>
  <dc:creator>Blair Lemons</dc:creator>
  <dc:description/>
  <dc:language>en-US</dc:language>
  <cp:lastModifiedBy>Blair Lemons</cp:lastModifiedBy>
  <dcterms:modified xsi:type="dcterms:W3CDTF">2009-06-25T17:10:09Z</dcterms:modified>
  <cp:revision>1</cp:revision>
  <dc:subject/>
  <dc:title>Slide 1</dc:title>
</cp:coreProperties>
</file>